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FA680F9-B827-4499-9B78-53D5E1BF4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33F476F-7BC3-4837-A421-2E2301993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69E0A-1BEE-4842-BA56-25494BF39C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47F2E7-7F9E-424E-BAC5-D3C9B8B24C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5DA84B-42DB-432C-A1F5-7877ECD523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4C0FC9-5A42-4057-8303-85233AFBC7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C141CCB-D225-4D5E-8A60-F16FE76CAF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303A3-07DD-4B48-BE48-19696CC8F1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3168F7-F84F-4EB3-AB02-1E9724461D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B9F28A99-53D8-4336-A0F0-95BA381C6A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D8D12D5-8D7B-4A1D-B6F1-30F2D5DA25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8531EC-C40E-4AC1-B602-B35CABDFC6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B7F7AA-0AF9-4977-9C1D-E6FEAD7EE2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A7D004-D046-441F-921D-3F0BAAD041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D2FD-F763-41D4-8769-056E98BB83C6}"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oval"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oval"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oval"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oval"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oval"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oval"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oval"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oval"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oval"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oval"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oval"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oval"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oval"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oval"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oval"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oval"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oval"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oval"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oval"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oval"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oval"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oval"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oval"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oval"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oval"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oval"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oval"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oval"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oval"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oval"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oval"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oval"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oval"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oval"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oval"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oval"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oval"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oval"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oval"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oval"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oval"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oval"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oval"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oval"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oval"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oval"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oval"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oval"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